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0B78EE-806E-47F3-AB13-3104EFAAD1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AB753A-AF5B-4615-80F9-69FD89FCF0AB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216E41-BB75-4F73-9D76-BA27248C4A63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E7BC6E-4B41-4308-AEC7-B19C426E43DB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A7331-2FFB-4DED-930C-E65A08C3B207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2"/>
          <a:stretch/>
        </p:blipFill>
        <p:spPr>
          <a:xfrm>
            <a:off x="173160" y="6165720"/>
            <a:ext cx="137448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8680" cy="6860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3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69923a"/>
          </a:solidFill>
          <a:ln w="9360">
            <a:solidFill>
              <a:srgbClr val="4d4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5811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923a"/>
                </a:solidFill>
                <a:latin typeface="Arial"/>
              </a:rPr>
              <a:t>Grammar and Meaning: Clause Compl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65280" y="5029200"/>
            <a:ext cx="30686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923a"/>
                </a:solidFill>
                <a:latin typeface="Arial"/>
              </a:rPr>
              <a:t>Robert 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verview of Clause Comp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 stat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ara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ypo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.B. *Embedded (rank shifted) clauses not considered a claus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ordinated Clauses (Para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uses of equal statu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ANBOY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FOR, AND, NOR, BUT, OR, YET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(additive: addition, time sequence, logical sequenc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want to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(disjunctive: alter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going 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staying h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(adversative: contras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ik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do not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(consequential, cause and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ve started, so I’ll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53640" y="1600200"/>
            <a:ext cx="7566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lause can be dependent on ano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nant clause (alpha)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 (beta) 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eats cak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feels si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 (Hypo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fter, although, if, unless, so that, ther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ers seemed long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, summers seemed lon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pendent Clause versus Rank-shif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A non-defining relative clause is considered depend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as brok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he ca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,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hi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broke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aid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noth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car,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whi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s a good 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Whereas, a defining relative clause is considered rank shifted and not part of a clause compl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e car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that was 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he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modifi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  Predic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 cost him nothing. The other one cost him a lo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or, T. and Bloor, M. (2004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Functional Analysis of English: A Hallidayan Approa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d)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LIDAY, M.A.K. (1985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 Introduction to Functional Gramm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20:48:00Z</dcterms:created>
  <dc:creator>David Wilson</dc:creator>
  <dc:description/>
  <dc:language>en-US</dc:language>
  <cp:lastModifiedBy>fox rob</cp:lastModifiedBy>
  <dcterms:modified xsi:type="dcterms:W3CDTF">2009-02-26T02:00:33Z</dcterms:modified>
  <cp:revision>29</cp:revision>
  <dc:subject/>
  <dc:title>PowerPoint Presentation</dc:title>
</cp:coreProperties>
</file>